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EA4-392C-4574-8430-934A54E6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508-64C1-43E0-A2FB-675CC7AC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008-2762-46D7-B81A-4AF55CED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66B-DB9F-40E5-921A-6C428296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02C2-2706-41E8-809F-71E18D5C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E88-CCAF-45EF-ACA3-1427811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90F-D0E6-4145-8DD9-D6EF1B4E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2A3E-3AE7-47E6-8BF6-A251F34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B1F-1914-43BF-A752-047137A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87B-D3CE-414D-A9FC-6236998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24FE-B226-4C74-91ED-1C90DD3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8B3-BED4-46C1-8957-8A87470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B468-EE04-4160-9ABD-C76C37C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589-6A4D-425C-B981-D33BF7A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ADB5-357D-45E9-AFFE-EE48071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CA07-A036-4158-AEAF-79AF8651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3881-E6DB-4779-B9DD-75DA0B05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ECD-C755-444F-A3DC-40AF900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30A-ECA5-41B4-9919-9B60A049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4B3-71A7-4DAC-918D-7A5FBE9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4C2-B95E-483D-8858-6C057391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F13-19B1-449C-9A22-8A48118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60A-21AB-4F5B-9DDA-F85BDA8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412-8F08-4DAD-9498-D2A4A88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4A896-0AAE-4F8A-A09E-62481D53F5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34DC5-8CEE-4020-9605-B79430D94C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85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-46080" y="145728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文本框 22" descr=""/>
          <p:cNvPicPr/>
          <p:nvPr/>
        </p:nvPicPr>
        <p:blipFill>
          <a:blip r:embed="rId9"/>
          <a:stretch/>
        </p:blipFill>
        <p:spPr>
          <a:xfrm>
            <a:off x="2840040" y="4265640"/>
            <a:ext cx="60818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文本框 8" descr=""/>
          <p:cNvPicPr/>
          <p:nvPr/>
        </p:nvPicPr>
        <p:blipFill>
          <a:blip r:embed="rId1"/>
          <a:stretch/>
        </p:blipFill>
        <p:spPr>
          <a:xfrm>
            <a:off x="2987640" y="228600"/>
            <a:ext cx="3664080" cy="781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1197000" y="168444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Part 1. Then tick or 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People open gifts on Christmas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Jenny thinks her mum and dad brought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Lynn thinks the gifts are from S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Li Ming gets a camera for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Li Ming’ s gift is for Mr. and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Santa wrote the names on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189080" y="23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120888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1208880" y="34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123588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1242000" y="454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272960" y="50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1252440" y="24559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8"/>
          <p:cNvSpPr/>
          <p:nvPr/>
        </p:nvSpPr>
        <p:spPr>
          <a:xfrm>
            <a:off x="1268280" y="301788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9"/>
          <p:cNvSpPr/>
          <p:nvPr/>
        </p:nvSpPr>
        <p:spPr>
          <a:xfrm>
            <a:off x="1268280" y="357660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0"/>
          <p:cNvSpPr/>
          <p:nvPr/>
        </p:nvSpPr>
        <p:spPr>
          <a:xfrm>
            <a:off x="1290600" y="4114800"/>
            <a:ext cx="24912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1"/>
          <p:cNvSpPr/>
          <p:nvPr/>
        </p:nvSpPr>
        <p:spPr>
          <a:xfrm>
            <a:off x="1308240" y="4668840"/>
            <a:ext cx="25056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2"/>
          <p:cNvSpPr/>
          <p:nvPr/>
        </p:nvSpPr>
        <p:spPr>
          <a:xfrm>
            <a:off x="1306440" y="52135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文本框 8" descr=""/>
          <p:cNvPicPr/>
          <p:nvPr/>
        </p:nvPicPr>
        <p:blipFill>
          <a:blip r:embed="rId1"/>
          <a:stretch/>
        </p:blipFill>
        <p:spPr>
          <a:xfrm>
            <a:off x="1978200" y="131760"/>
            <a:ext cx="5806800" cy="782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1374840" y="915840"/>
            <a:ext cx="668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at  time is 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'half 'past  s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re are you 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 China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How did I 'do,  Da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'learn 'fast,  Li  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n is the 'Spring  Festi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in  January or 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o is  si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'woman is 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2165400" y="103968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3087720" y="1373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/>
          <p:cNvPicPr/>
          <p:nvPr/>
        </p:nvPicPr>
        <p:blipFill>
          <a:blip r:embed="rId4"/>
          <a:stretch/>
        </p:blipFill>
        <p:spPr>
          <a:xfrm>
            <a:off x="3151080" y="16016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3338640" y="21542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1432080" y="30574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7"/>
          <a:stretch/>
        </p:blipFill>
        <p:spPr>
          <a:xfrm>
            <a:off x="2662200" y="27036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8"/>
          <a:stretch/>
        </p:blipFill>
        <p:spPr>
          <a:xfrm>
            <a:off x="2444760" y="36226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9"/>
          <a:stretch/>
        </p:blipFill>
        <p:spPr>
          <a:xfrm>
            <a:off x="3300480" y="322416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0"/>
          <a:stretch/>
        </p:blipFill>
        <p:spPr>
          <a:xfrm>
            <a:off x="3409920" y="38052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1"/>
          <a:stretch/>
        </p:blipFill>
        <p:spPr>
          <a:xfrm>
            <a:off x="2063880" y="472932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12"/>
          <a:stretch/>
        </p:blipFill>
        <p:spPr>
          <a:xfrm>
            <a:off x="4002120" y="43070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/>
          <p:cNvPicPr/>
          <p:nvPr/>
        </p:nvPicPr>
        <p:blipFill>
          <a:blip r:embed="rId13"/>
          <a:stretch/>
        </p:blipFill>
        <p:spPr>
          <a:xfrm>
            <a:off x="1503360" y="5207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14"/>
          <a:stretch/>
        </p:blipFill>
        <p:spPr>
          <a:xfrm>
            <a:off x="2232000" y="5045040"/>
            <a:ext cx="3333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15"/>
          <a:stretch/>
        </p:blipFill>
        <p:spPr>
          <a:xfrm>
            <a:off x="3774960" y="49118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16"/>
          <a:stretch/>
        </p:blipFill>
        <p:spPr>
          <a:xfrm>
            <a:off x="2341440" y="545292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17"/>
          <a:stretch/>
        </p:blipFill>
        <p:spPr>
          <a:xfrm>
            <a:off x="3241800" y="5997600"/>
            <a:ext cx="35244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1136520" y="1370160"/>
            <a:ext cx="780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选单词或短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open/turn on)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ow, L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 open/turn on)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ght,  To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6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6"/>
          <p:cNvSpPr/>
          <p:nvPr/>
        </p:nvSpPr>
        <p:spPr>
          <a:xfrm>
            <a:off x="3042720" y="218772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869200" y="370188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rn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327320" y="5248440"/>
            <a:ext cx="715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2151000" y="513072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手或某工具打开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打开某种电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1" descr=""/>
          <p:cNvPicPr/>
          <p:nvPr/>
        </p:nvPicPr>
        <p:blipFill>
          <a:blip r:embed="rId2"/>
          <a:stretch/>
        </p:blipFill>
        <p:spPr>
          <a:xfrm>
            <a:off x="6540480" y="2033640"/>
            <a:ext cx="1662120" cy="136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"/>
          <p:cNvPicPr/>
          <p:nvPr/>
        </p:nvPicPr>
        <p:blipFill>
          <a:blip r:embed="rId3"/>
          <a:stretch/>
        </p:blipFill>
        <p:spPr>
          <a:xfrm>
            <a:off x="6613560" y="3747960"/>
            <a:ext cx="158904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25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0"/>
          <p:cNvSpPr/>
          <p:nvPr/>
        </p:nvSpPr>
        <p:spPr>
          <a:xfrm>
            <a:off x="914400" y="13636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好朋友丽丽问你明天会不会下雨，你想说不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应该这样回答（     ）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No, it isn’t.                 B. No, it didn’t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No, I don’t think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922320" y="4299120"/>
            <a:ext cx="78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is h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         B. few        C.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2865600" y="496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3409920" y="25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8" descr=""/>
          <p:cNvPicPr/>
          <p:nvPr/>
        </p:nvPicPr>
        <p:blipFill>
          <a:blip r:embed="rId1"/>
          <a:stretch/>
        </p:blipFill>
        <p:spPr>
          <a:xfrm>
            <a:off x="6464160" y="4476600"/>
            <a:ext cx="1143000" cy="17812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34" name="矩形 23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7"/>
          <p:cNvSpPr/>
          <p:nvPr/>
        </p:nvSpPr>
        <p:spPr>
          <a:xfrm>
            <a:off x="1019160" y="1490760"/>
            <a:ext cx="67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根据图片，选出合适的单词填空，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few/ little)juice in the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044720" y="4427640"/>
            <a:ext cx="735804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1"/>
          <p:cNvSpPr/>
          <p:nvPr/>
        </p:nvSpPr>
        <p:spPr>
          <a:xfrm>
            <a:off x="1870200" y="4419720"/>
            <a:ext cx="63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都表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一点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不可数名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可数名词，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uic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数名词可知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678760" y="204624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8" descr=""/>
          <p:cNvPicPr/>
          <p:nvPr/>
        </p:nvPicPr>
        <p:blipFill>
          <a:blip r:embed="rId1"/>
          <a:stretch/>
        </p:blipFill>
        <p:spPr>
          <a:xfrm>
            <a:off x="4033800" y="2673360"/>
            <a:ext cx="1076400" cy="1628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81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33240" y="1486080"/>
            <a:ext cx="801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28640" y="2946240"/>
            <a:ext cx="75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 litt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d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048040" y="4700520"/>
            <a:ext cx="567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resents do you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235080"/>
            <a:ext cx="27244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cuments and Settings\Administrator\桌面\五英JJ课件刘永霞勿删\图片\20131214114140126.png"/>
          <p:cNvPicPr/>
          <p:nvPr/>
        </p:nvPicPr>
        <p:blipFill>
          <a:blip r:embed="rId2"/>
          <a:stretch/>
        </p:blipFill>
        <p:spPr>
          <a:xfrm>
            <a:off x="846000" y="1647720"/>
            <a:ext cx="3063960" cy="267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619520" y="1438200"/>
            <a:ext cx="34768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512640" y="1206360"/>
            <a:ext cx="848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Christmas morning! This morning we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r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 Santa bring gif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e on, Lynn! Let’s go and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e did! He did bring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 brought these gifts, Jenny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 asks.  “D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 bring them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 t think so. I think Mum and Dad brought them, but Lynn is litt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inks Santa brought them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 says to Li M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sees a  gift. It has her name on it! She opens it. “Look! Santa brought 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oys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s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654960" y="1650960"/>
            <a:ext cx="2016000" cy="14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6729480" y="1784520"/>
            <a:ext cx="1861920" cy="11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698400" y="1257480"/>
            <a:ext cx="802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, Li Ming! You have a gift, too. It’ s from Sant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nn gives Li Ming the gift.  “Open it, Li Ming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a camer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s Li M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anted a camera! Now I can take  pictures and send them to my mother and father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Li Ming gives his gift to Mr. and Mrs. Sm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for everyone. It’s from 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and Mrs. Smith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! Thank you, Li Ming! Is it from Ch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! It’s a Chinese lantern. I asked my mother to sen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’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wonderfu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7"/>
          <p:cNvSpPr/>
          <p:nvPr/>
        </p:nvSpPr>
        <p:spPr>
          <a:xfrm>
            <a:off x="3626640" y="16462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en / əʊpə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1598760" y="170028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9"/>
          <p:cNvSpPr/>
          <p:nvPr/>
        </p:nvSpPr>
        <p:spPr>
          <a:xfrm>
            <a:off x="2052720" y="17398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60680" y="237636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open the door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打开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9" descr="book.gif"/>
          <p:cNvPicPr/>
          <p:nvPr/>
        </p:nvPicPr>
        <p:blipFill>
          <a:blip r:embed="rId2"/>
          <a:stretch/>
        </p:blipFill>
        <p:spPr>
          <a:xfrm>
            <a:off x="826920" y="1622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1895040" y="248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709720" y="377496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2087280" y="321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3460680" y="307512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+  pen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钢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 =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014200" y="391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088360" y="498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3669840" y="4881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形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过去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2074320" y="559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3125160" y="5499000"/>
            <a:ext cx="19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关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1081080" y="1353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876320" y="3470400"/>
            <a:ext cx="68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用手或某工具打开”，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打开某种电器”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171440" y="36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2285280" y="2917800"/>
            <a:ext cx="21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4953240" y="293832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723960" y="3641760"/>
            <a:ext cx="323640" cy="371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3"/>
          <a:stretch/>
        </p:blipFill>
        <p:spPr>
          <a:xfrm>
            <a:off x="2593800" y="1816200"/>
            <a:ext cx="3967200" cy="12348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0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8"/>
          <p:cNvSpPr/>
          <p:nvPr/>
        </p:nvSpPr>
        <p:spPr>
          <a:xfrm>
            <a:off x="1627200" y="50990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hot in the classroom.  Please _____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860400" y="523224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9" descr="花盆.png"/>
          <p:cNvPicPr/>
          <p:nvPr/>
        </p:nvPicPr>
        <p:blipFill>
          <a:blip r:embed="rId4"/>
          <a:stretch/>
        </p:blipFill>
        <p:spPr>
          <a:xfrm>
            <a:off x="608040" y="52340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6"/>
          <p:cNvSpPr/>
          <p:nvPr/>
        </p:nvSpPr>
        <p:spPr>
          <a:xfrm>
            <a:off x="6145200" y="527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1"/>
          <p:cNvSpPr/>
          <p:nvPr/>
        </p:nvSpPr>
        <p:spPr>
          <a:xfrm>
            <a:off x="3648960" y="1617840"/>
            <a:ext cx="2174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think so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这样认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2"/>
          <p:cNvSpPr/>
          <p:nvPr/>
        </p:nvSpPr>
        <p:spPr>
          <a:xfrm>
            <a:off x="1627200" y="2444760"/>
            <a:ext cx="70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句话实际上相当于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anta brought these gifts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英语中通常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think so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赞同对方的观点，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 think so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不赞同对方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925560" y="404820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1547640" y="4041720"/>
            <a:ext cx="69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 you think it’s going to snow tomorr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明天会下雪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think so.  / No, I don’t think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认为明天会下雪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认为明天不会下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7"/>
          <p:cNvSpPr/>
          <p:nvPr/>
        </p:nvSpPr>
        <p:spPr>
          <a:xfrm>
            <a:off x="901800" y="243684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835200" y="1638360"/>
            <a:ext cx="187164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285840" y="1490760"/>
            <a:ext cx="1085760" cy="6649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9"/>
          <p:cNvSpPr/>
          <p:nvPr/>
        </p:nvSpPr>
        <p:spPr>
          <a:xfrm>
            <a:off x="1378080" y="1596960"/>
            <a:ext cx="1365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7"/>
          <p:cNvSpPr/>
          <p:nvPr/>
        </p:nvSpPr>
        <p:spPr>
          <a:xfrm>
            <a:off x="2625840" y="163512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 / lɪtl/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幼小的；少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9"/>
          <p:cNvSpPr/>
          <p:nvPr/>
        </p:nvSpPr>
        <p:spPr>
          <a:xfrm>
            <a:off x="1182600" y="17305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679400" y="2625840"/>
            <a:ext cx="56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little sis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小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1"/>
          <a:stretch/>
        </p:blipFill>
        <p:spPr>
          <a:xfrm>
            <a:off x="5868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2975040" y="339732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774720" y="34894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943920" y="2733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61800" y="414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011320" y="40194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幼小的”时，常带有感情色彩，含有“喜欢、爱怜”的意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许的”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量的，一点儿”，与不可数名词连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2"/>
          <a:stretch/>
        </p:blipFill>
        <p:spPr>
          <a:xfrm>
            <a:off x="784080" y="4176720"/>
            <a:ext cx="32400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302480" y="1541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2157480" y="3110040"/>
            <a:ext cx="252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 mi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乎没有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5351040" y="3133800"/>
            <a:ext cx="1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milk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点儿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014480" y="449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9" descr="花盆.png"/>
          <p:cNvPicPr/>
          <p:nvPr/>
        </p:nvPicPr>
        <p:blipFill>
          <a:blip r:embed="rId1"/>
          <a:stretch/>
        </p:blipFill>
        <p:spPr>
          <a:xfrm>
            <a:off x="749160" y="44816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0"/>
          <p:cNvSpPr/>
          <p:nvPr/>
        </p:nvSpPr>
        <p:spPr>
          <a:xfrm>
            <a:off x="1895400" y="4352760"/>
            <a:ext cx="64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ry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rl. She looks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e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1"/>
          <p:cNvSpPr/>
          <p:nvPr/>
        </p:nvSpPr>
        <p:spPr>
          <a:xfrm>
            <a:off x="3501000" y="448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911160" y="5632560"/>
            <a:ext cx="712800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3"/>
          <p:cNvSpPr/>
          <p:nvPr/>
        </p:nvSpPr>
        <p:spPr>
          <a:xfrm>
            <a:off x="1711440" y="554976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是：玛丽是一个小女孩。她看起来很可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3" descr=""/>
          <p:cNvPicPr/>
          <p:nvPr/>
        </p:nvPicPr>
        <p:blipFill>
          <a:blip r:embed="rId2"/>
          <a:stretch/>
        </p:blipFill>
        <p:spPr>
          <a:xfrm>
            <a:off x="3079800" y="1967040"/>
            <a:ext cx="3355920" cy="1330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4:02:00Z</dcterms:modified>
  <cp:revision>6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